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7FC-7476-479E-BFF9-D9FFC5DD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837-407C-47A8-8968-04361E86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F51-152D-44CA-918A-DB32DB8C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936-A2B4-4D69-929B-F93E7879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4A8-5564-49CC-8C32-9DBD7CBB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A3A-AB52-45C1-9EBD-41E1BEB2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ECD-1C82-407A-A6D8-EC30E4B8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293-EFFE-4B79-86D4-2B5E4EED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AEE-AB86-4462-9749-1AB0D1A5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006-A24A-4751-9225-F1C9535E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8FE-A4A6-485D-BCC2-3BA9FC88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D94-96AA-44D2-A7ED-2953D6A4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DF87-6B56-4B93-BE02-6D5380F81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 22.41 potrka na vrata 72-letni pacient prišepa v ambulanto in dvigne levo hlačnico rekoč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vo koleno mi je včeraj ponoči začelo otekati, vedno bolj me boli, sedaj je že nevzdržno. Prosim, storite kaj, Lekadol in Ketonal mi nič več ne pomagat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j je nujen naslednji korak (23h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koj začeti zdravljenje z antibioti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ab. preiskave + punkcija sredi no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Čimprejšnje razgibavanje kolena, lab. preiskave in punkcija ju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tg ko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do bo opravil punkcijo kol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sti, ki je usposobl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a aseptične pogoje za izvedbo pun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 poslal vzorec na mikrobiološki preg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 v primeru gnojnega punktata znal ukrepati napr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E ANTIBIOTIKA, DOKLER NI KUŽN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oratorijske preiskave urgent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0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7"/>
          <p:cNvGrpSpPr/>
          <p:nvPr/>
        </p:nvGrpSpPr>
        <p:grpSpPr>
          <a:xfrm>
            <a:off x="990720" y="1494000"/>
            <a:ext cx="7315200" cy="4678200"/>
            <a:chOff x="990720" y="1494000"/>
            <a:chExt cx="7315200" cy="4678200"/>
          </a:xfrm>
        </p:grpSpPr>
        <p:pic>
          <p:nvPicPr>
            <p:cNvPr id="69" name="Picture 5" descr="M7250378-Fluid_aspiration_for_arthritis_treatment-SPL"/>
            <p:cNvPicPr/>
            <p:nvPr/>
          </p:nvPicPr>
          <p:blipFill>
            <a:blip r:embed="rId1"/>
            <a:stretch/>
          </p:blipFill>
          <p:spPr>
            <a:xfrm>
              <a:off x="1514520" y="1494000"/>
              <a:ext cx="6410160" cy="42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6"/>
            <p:cNvSpPr/>
            <p:nvPr/>
          </p:nvSpPr>
          <p:spPr>
            <a:xfrm>
              <a:off x="990720" y="5257800"/>
              <a:ext cx="73152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 komu bi napotili takšnega pacien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vmato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kto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ternistična prva pomo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op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OZ V BOLNIŠ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mbulance600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. preiska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P 150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ukociti 11,5 s pomikom v levo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koza 13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kcija: 50 ml, moten, gost, rumenorj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kometer punktata: glukoza 2’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Kaj je treba storiti s punktat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slati na mikrobiološko kul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slati na razmaz po Gramu, mikrobiol. kulturo in mikroskopski pregled krista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akroskopsko oceniti prisotnost bakter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avreči v zabojnik za kužno vseb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ski razmaz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v 2 ur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robiološka kultura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v 1-2 dn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roskopski pregled kristalov:  1 te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 je sedaj 01:00 zjutra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ob 01:00 potrebuje pac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Artroskopsko) izpiranje kolena in i.v. a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.v. antibiotik, izpiranje če ni izboljš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roralni antibiotik in razgib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obilizacija, atb po izvidu mikrob k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knee-deep"/>
          <p:cNvPicPr/>
          <p:nvPr/>
        </p:nvPicPr>
        <p:blipFill>
          <a:blip r:embed="rId1"/>
          <a:stretch/>
        </p:blipFill>
        <p:spPr>
          <a:xfrm>
            <a:off x="22096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piranje kolena, po možnosti artroskopsk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ventuelne hemok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.v. atb, analgetik, imobilizacija, hlaj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 mikrob. izvidu prilagoditev atb terapije (negativen izvid ne izključuje septičnega artritisa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novitev izpiranja, če ponovno oteč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 2-3 neuspešnih izpiranjih artrotom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"/>
          <p:cNvPicPr/>
          <p:nvPr/>
        </p:nvPicPr>
        <p:blipFill>
          <a:blip r:embed="rId1"/>
          <a:stretch/>
        </p:blipFill>
        <p:spPr>
          <a:xfrm>
            <a:off x="2209680" y="16002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lgoročne posledice po uspešno pozdravljenem septičnem artritis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gantocelularni tumor sinovialne ovoj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rtroza skle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ekanje malih sklepov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uptura meniskus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oda pacientov s septičnim artritisom kolena pred dobo antibiotiko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Artroza skle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Kostna ankiloza sklepa (fibrozna pri T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Sepsa, lahko tudi sm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o ločimo septični artritis od akutne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CRP pri septičnem artriti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urat pri akutni put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 makroskopskem izgledu punk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zitivna mikrobiologija in odsotnost kristalov v punkt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o je zdravljenje akutnega napada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razgibavanje, gretje, alopur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imobilizacija, hlajenje, N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.v. atb, izpiranje kolena, hla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bijanje kristalov z UZ val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ČNI ART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če ste prespali seminar, vsaj to poslušajt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liv v sklepu + vročina ali mrzlica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m na septični art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od putičnega lahko ločimo le z mikrobiološkimi-mikroskopskimi preiskav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gentno stanje, potencialno resne posle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z anamneze/pregleda ne morete pravilno oceniti urgentnosti in bolnika pravilno napot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le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cija/lab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piranj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v. antibio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ake: odklonitev pacienta, zakasnitev, p.o. antibiotik, antibiotik pred punkcijo, brez izp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ČNI ART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4724280"/>
            <a:ext cx="8839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vala, ker ste mi pozdravili koleno. Že jutri bom glasoval za vas v Janini akciji “Zdravnik leta”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4818823-happy-elderly-man-in-a-garden"/>
          <p:cNvPicPr/>
          <p:nvPr/>
        </p:nvPicPr>
        <p:blipFill>
          <a:blip r:embed="rId1"/>
          <a:stretch/>
        </p:blipFill>
        <p:spPr>
          <a:xfrm>
            <a:off x="1447920" y="0"/>
            <a:ext cx="6238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j je pomembno vprašati v anamne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iko časa oteklin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vič v življenju? Drugi sklep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čina? Mrzl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ožilni dejavniki (poškodb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tane bolečine, nočne boleč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e bolezni, zdravila, al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cient nam odgov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oleno začelo otekati ponoči, se slabš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eklina kolena prvič, drugi sklepi b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l vročino do 3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, občasno mrz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 spomni se poškod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ine v mirovanju, tudi ponoč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dno jemlje insulin, alergij ne nav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je naš naslednji kora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cija ko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inični pregled ko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damo napotnico za laboratorijske preiskave vnetnih parametrov (jut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enta takoj napotimo v bolni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inični pregled kolena naj obseg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kcija (meritve, primerjava z zdra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pacija (oteklina, izliv ali zadebel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naki vnetja (rubor, tumor, dolor, calor, f.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seg gibljivosti (iztegnjeno =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spodnje ekstre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e to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3014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pregledu ugotov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vo koleno močno otek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zitiven balottement (obsežen izl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rez rdečine, toplejše, bole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bljivost 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 (kontrak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b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fuzna bolečnost, brez lokaliziranih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rvni sladkor (glukometer) 12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a je naša delovna diagno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čni artritis ko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utni napad put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tirjena sladkorna bol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abšanje artroze ko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2-10-10T05:08:42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